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wmf" ContentType="image/x-wmf"/>
  <Override PartName="/ppt/media/image3.wmf" ContentType="image/x-wmf"/>
  <Override PartName="/ppt/media/image9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87D-BBC5-4E22-AF9C-93110A51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972-7657-46A2-B1F7-C84018B3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868-3325-499B-B1A6-E83D1C26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F52-AC1E-4DFF-B155-1FF9CA5A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B0D-31C1-4E1C-A351-48980595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D1F-C20A-4572-9FD2-B38E95DE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DAC-67AB-4737-BDA4-C9512624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A2B-3279-4F82-971B-004E41A1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642-0AAC-4BAF-8672-4944E951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85C-FDC4-4446-95B0-73F87472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3A7-102D-4085-9373-67049711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0A7-289A-47A0-9943-DEE1FE11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A2B7-6A15-40D8-B77F-977876D35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r Quality Applications of NOAA Operational Satellit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 Kondragu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AA/NESDIS Center for Satellite Applications an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696080" y="228600"/>
            <a:ext cx="1218960" cy="1219320"/>
            <a:chOff x="7696080" y="228600"/>
            <a:chExt cx="1218960" cy="1219320"/>
          </a:xfrm>
        </p:grpSpPr>
        <p:sp>
          <p:nvSpPr>
            <p:cNvPr id="44" name=""/>
            <p:cNvSpPr/>
            <p:nvPr/>
          </p:nvSpPr>
          <p:spPr>
            <a:xfrm>
              <a:off x="7711920" y="244440"/>
              <a:ext cx="1187280" cy="118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7696080" y="22860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"/>
          <p:cNvGrpSpPr/>
          <p:nvPr/>
        </p:nvGrpSpPr>
        <p:grpSpPr>
          <a:xfrm>
            <a:off x="152280" y="228600"/>
            <a:ext cx="1295280" cy="1257480"/>
            <a:chOff x="152280" y="228600"/>
            <a:chExt cx="1295280" cy="1257480"/>
          </a:xfrm>
        </p:grpSpPr>
        <p:sp>
          <p:nvSpPr>
            <p:cNvPr id="47" name=""/>
            <p:cNvSpPr/>
            <p:nvPr/>
          </p:nvSpPr>
          <p:spPr>
            <a:xfrm>
              <a:off x="206280" y="263520"/>
              <a:ext cx="1187280" cy="118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52280" y="228600"/>
              <a:ext cx="1295280" cy="125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AA Partner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 operational satellite data are freely available to the public (http://www.osdpd.noaa.gov).  Most products are available within hours of data cap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 partners with NASA, EPA, USFS, and other agencies routinely to develop new applications of its satelli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ransition of NASA research algorithms to NOAA for operational implement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download of NOAA GOES aerosol products by EPA Remote Sensing Information Gate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ed enhancement of EPA AIRNow system with NOAA GOME-2 NO2 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leads sever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CEOS Atmospheric Composition Constellation project on NO2 reported 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 tie in with EPA’s AIRNOW-I by developing global IDEA (Infusing satellite Data into Environmental Application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5640" y="27432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Hot Spot Detection and Characterization from 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426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ned area estimates derived from NOAA GOES-E satellite from 2002 to 2006 show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dland fires peak between June and Sept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nnual c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suppress the fires are substantial for all types of fires with a total cost of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8.6 billion dolla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268880" y="1239840"/>
          <a:ext cx="472284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239840"/>
                    <a:ext cx="472284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952880" y="5105520"/>
            <a:ext cx="3733920" cy="146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Costs do not include impact of smoke from fires on human health and other costs associated with transportation and evacuation and loss of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495680" y="3162240"/>
          <a:ext cx="4496040" cy="1879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162240"/>
                    <a:ext cx="44960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04920" y="4267080"/>
          <a:ext cx="3992040" cy="2057040"/>
        </p:xfrm>
        <a:graphic>
          <a:graphicData uri="http://schemas.openxmlformats.org/drawingml/2006/table">
            <a:tbl>
              <a:tblPr/>
              <a:tblGrid>
                <a:gridCol w="2090880"/>
                <a:gridCol w="1901160"/>
              </a:tblGrid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etation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(millions of dolla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n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rub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plands/natural vege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57200" y="632448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estimates (dollars per acre) were obtained from Gebert et al., West. J. of App. For., 22(3)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44520" y="76320"/>
            <a:ext cx="232236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Model Predictions with Satellite Data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2590560" cy="121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S Aerosol Optical Depth assimilation Improved CMAQ surface PM2.5 Predictions by ~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914920" cy="21862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3200400" y="2819520"/>
            <a:ext cx="5684760" cy="3860280"/>
            <a:chOff x="3200400" y="2819520"/>
            <a:chExt cx="5684760" cy="386028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2551" t="12731" r="3236" b="11754"/>
            <a:stretch/>
          </p:blipFill>
          <p:spPr>
            <a:xfrm>
              <a:off x="3200400" y="3262320"/>
              <a:ext cx="5684760" cy="34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54480" y="2819520"/>
              <a:ext cx="26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MAQ (no assimila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80040" y="2819520"/>
              <a:ext cx="26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MAQ (assimila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0" y="4665600"/>
                <a:ext cx="32767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na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guess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na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ues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rcRect l="4166" t="0" r="5555" b="0"/>
          <a:stretch/>
        </p:blipFill>
        <p:spPr>
          <a:xfrm>
            <a:off x="4191120" y="2514600"/>
            <a:ext cx="4952880" cy="4240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5105520" y="380880"/>
            <a:ext cx="34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S testing of smoke verification for Al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NESDIS GOES-W smoke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038840" cy="291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57200" y="3255840"/>
            <a:ext cx="373392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0240" y="274680"/>
            <a:ext cx="3962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ng PM2.5 from Satelli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46080"/>
            <a:ext cx="4038840" cy="323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692440" y="3276720"/>
            <a:ext cx="3098880" cy="3402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3276720"/>
            <a:ext cx="3098520" cy="339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5943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s courtesy of Philip Morefield, 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9718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rtesy of Hai Zhang, UM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NO2 Hotsp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76440" y="1600200"/>
            <a:ext cx="5989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13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15228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ellite Observed Diurn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3081240" cy="2311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110040" y="1219320"/>
            <a:ext cx="3062160" cy="2295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42900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Model Diurn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944640"/>
            <a:ext cx="7848360" cy="276480"/>
            <a:chOff x="762120" y="944640"/>
            <a:chExt cx="7848360" cy="276480"/>
          </a:xfrm>
        </p:grpSpPr>
        <p:sp>
          <p:nvSpPr>
            <p:cNvPr id="84" name=""/>
            <p:cNvSpPr/>
            <p:nvPr/>
          </p:nvSpPr>
          <p:spPr>
            <a:xfrm>
              <a:off x="762120" y="94464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sonal Me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94464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sonal Mean (Weekday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24480" y="94464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sonal Mean (Weekend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4241880"/>
            <a:ext cx="3081240" cy="2311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019320" y="4241880"/>
            <a:ext cx="3081600" cy="2311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062760" y="4241880"/>
            <a:ext cx="3081240" cy="231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81840" y="1219320"/>
            <a:ext cx="30621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910120" y="1193760"/>
            <a:ext cx="308160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57840" y="3962520"/>
            <a:ext cx="3081240" cy="2311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3081600" cy="2311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3081600" cy="2311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3049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d and Measured Diurn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 of NO2 in the U.S. Ozone Non-Attainm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rcRect l="0" t="0" r="0" b="42001"/>
          <a:stretch/>
        </p:blipFill>
        <p:spPr>
          <a:xfrm>
            <a:off x="2976480" y="2514600"/>
            <a:ext cx="3043440" cy="2284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00400" y="3505320"/>
            <a:ext cx="22860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505320"/>
            <a:ext cx="22860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038480"/>
            <a:ext cx="228600" cy="22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3200400"/>
            <a:ext cx="22860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895480" y="2819520"/>
            <a:ext cx="10670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819520" y="36576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19112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638680" y="31240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1480" y="4286160"/>
            <a:ext cx="3427560" cy="2571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02200" y="4267080"/>
            <a:ext cx="3427560" cy="257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2200" y="1657440"/>
            <a:ext cx="3427560" cy="257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82640" y="1663560"/>
            <a:ext cx="3427560" cy="2571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520" y="7621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and Modeled Weekday/Weekend Difference in Tropospheric N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1660680"/>
            <a:ext cx="685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ME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4267080"/>
            <a:ext cx="457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1660680"/>
            <a:ext cx="12193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AQ at 10 L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4267080"/>
            <a:ext cx="12193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AQ at 13 L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1:16:53Z</dcterms:created>
  <dc:creator>shobhak</dc:creator>
  <dc:description/>
  <dc:language>en-US</dc:language>
  <cp:lastModifiedBy>ctsuser</cp:lastModifiedBy>
  <dcterms:modified xsi:type="dcterms:W3CDTF">2009-11-18T15:20:45Z</dcterms:modified>
  <cp:revision>13</cp:revision>
  <dc:subject/>
  <dc:title>Fire Hot Spot Detection from Hyperspectral Sounder</dc:title>
</cp:coreProperties>
</file>